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B03-60D9-4242-83FC-1C5CB2CF3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DDE-1C00-4B78-A007-8595A3F0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ECFF-DD54-4F1F-8C38-1931B1AE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EBB-FBC8-4BC4-8658-C3CA820C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EC4-D48E-450B-8E08-252F76A7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EBF9-8701-40B6-94B7-4026ECA4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5025-D4FB-407B-9587-BE1F9DFB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9D1-5956-42DB-B0AD-F3EF7DF5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7D5-BC9B-4456-9F1B-086F9D76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F81D-E9B4-44E6-8C76-EEF3F2F17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25DF-3D96-40F7-B8CE-7A10554B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0EA-43A9-47EB-AFE4-A58C138E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C2B-931E-4E32-88E6-73C83A34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918-2220-48EC-AAC7-88FDC167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7E94-04F9-4B8F-ABEB-1DEDE770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6C6-5027-4C2C-992B-0BF7BAEC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E68B-44FF-4803-8694-267CB7DA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89B-5D3F-44F6-943E-37E88F68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CE3-1ED2-4129-8EFA-A151B736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379-EAAF-45CF-97D7-F2BF6C10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F745-E336-4316-A51B-2CE98452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5C78-B407-4D79-A819-9A50D398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4417-5D9F-43A1-AA53-B4F42D62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AD5-44C9-4DAD-AC81-CFA12987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7ACE-8D72-4296-8E46-636D66E4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E596-ED12-4788-A0C2-878666B8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7DE7-9AD8-4D59-814B-F911FEFD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6EDE-1AD3-4E7D-899F-DB735FF8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50DA-6AAC-42FE-8B8C-5F3B9B49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6D6-A2DA-4CB3-AC37-2D08934F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626-EA89-4559-AB2F-80904608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D1D-43E6-4F35-B62B-8A69B763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5B4-A057-4A88-8EAD-D5DC9EA2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297-4237-4D86-AB37-91AE7496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902-E326-468A-B2F5-A705D279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911-34F1-439D-9E17-59C773A4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4B9-3817-4F99-BCB7-882C7388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767-8F95-4EA0-B609-D28B3C13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680F-E55B-4A97-B02D-7BD01D576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A363-3251-441F-B902-FDC655E5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E9C8-09A7-453B-8794-EFA25D28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CFD-D19C-4688-A696-731AFA1D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8E64-DFF0-45B5-8637-817079CC7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285-2E51-43B1-BCDD-37087977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7DE-BEE8-4B6F-8340-7E9AC839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34C-FAF4-4BA8-945F-09749E5A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C26-304C-4A7F-BF7B-9F93F417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DE7-EC12-45AE-AF7B-463D5989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069-5BFE-498C-B258-C1D3B3F0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CFA-8BC6-4D4B-B4F5-CA47BE46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0C98-A890-4946-95A7-80A61C0F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322-F37E-47FC-A79A-6900F61A4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167A-E64E-4575-B592-46C022B4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3E5-D692-4929-817A-0373AEC2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97B-BDE7-4547-8DC0-5317A4BF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F29-8346-442F-B394-C8A17CEA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378-1CC8-478E-89C7-C28B8FF6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83BC-FF13-4D1F-8ECC-D1099A88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D44-5292-4C9E-8A31-D2D2EB24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096-A951-4C40-BB64-E73FD37E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DCA3-5632-416F-9EB3-DEFB7B22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ome kids, algebra is the problem, not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60A-46B5-451E-B605-AF1E489F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olutions:  Choice 1:   0.1n ÷ 2  or  -n + 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  2n x 2;  4n;  4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430F-81BA-464A-BF60-D4A0D106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68BD-4E0F-4B48-8DE3-61026B8B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D47F-2CC0-45B6-9F42-23A29D46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893-77EF-4137-A8FD-22072BF3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1BB-B161-4853-84EE-045001DD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F83-2BB5-4DA6-B6FB-769CB8FC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71FF-B2F5-4BB1-B610-EA2DD996C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E70-F028-419F-A878-D04BF936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7F2B-ADDD-4549-8015-8627E4F5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93D-3B6D-4EE4-BBBC-F51CE264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FECF-B8B4-4752-9321-025D70DA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295-39F4-4D73-AD40-A9669FA9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1E7D-4E18-4A7A-970C-272291B6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A04-C214-447E-8817-7235092A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EA2-D939-4966-9BE4-70494CD4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AB7-28FD-4C3C-BE6B-1936E541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ACCB-B6CD-4930-AC87-27271559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EDD-696A-4CB8-964C-236BA5D0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433-59D5-4BCA-B092-2131BB25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ED3-1397-44E9-A1E9-082CE982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3A8-0882-4FDD-88B2-2E5155BD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DF92-DA73-47E4-B145-B43A055A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B199-4380-4CDF-AD78-D9674FDA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6A9-3F83-4014-AAEB-7729515E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01F-B3A4-4092-B39A-A90B8170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2FB-8854-420D-BC96-E542C3A6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C87-1723-4DE5-BC66-591C305E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6550-1A03-45AE-807C-45D2F4F7F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464-6C47-454C-982A-091D46DF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08D-A4C5-4FCE-BD87-7610FD07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DF3-28D2-42C1-91AC-86E22647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03A-A300-4BE1-A3B5-7DAB53A2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36C-8398-4361-96E6-F9BAEED3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1F3-2014-427B-A64A-190D3630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E41-3D8A-4FA8-A168-72E76753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5361-BE28-4074-A66E-BA09294B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448-66B8-437A-9DFE-1F95B796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3D90-AE32-423B-AE9E-1D697829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FAD-52D8-46E2-8764-912E98A3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4016-8E68-422B-A8E8-A65FFCF3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6A4D-237D-42C8-A6A7-F6E315B2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820-F72A-42B8-B292-F5B1E447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739-35AC-4F9E-8128-8EB2DEAC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13B-9A67-4C7A-95F4-411079FC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926-A50B-422C-BDB3-82EBD17E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FEB-AFB5-4BF4-99A7-A0AF3C93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FE9-44B1-4FD2-A4C0-6338EEDE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DE28-0503-47B1-A6FD-E51F59BD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CBEF-DC1D-4A1C-AD95-12C34D00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DBA-F731-421B-ABB3-9ED4D1D8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BBC-DD70-46EC-AE7A-8D7AE01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F04-3E90-4A24-9B49-A258E409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032-AB86-4A99-8B4B-84BB2588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E40-1E25-44AA-8B34-933545F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DC9-B1B0-4F69-B145-EFD1C3A2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943-36F0-4E4F-9A09-DF2D5AF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4CC-71A0-430F-A58F-29617992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BC6-A7A2-4947-BAF9-055E5BD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93B-533A-4197-858A-EDBAB94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83A-FDDC-421A-9C51-A37A7A6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1F3-E9D0-476E-B2C4-A9AD532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B9E-5E43-488A-BBAE-F7B17F2AFF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A5A-0C75-4121-9E75-CB60FA7E18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EE48-80D0-46BF-B1F2-C49B53F34D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 (BI 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Picture 1.png"/>
          <p:cNvPicPr/>
          <p:nvPr/>
        </p:nvPicPr>
        <p:blipFill>
          <a:blip r:embed="rId2"/>
          <a:stretch/>
        </p:blipFill>
        <p:spPr>
          <a:xfrm>
            <a:off x="4572000" y="4495680"/>
            <a:ext cx="3314880" cy="112572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135-53A8-40D6-B3B3-9718C74D74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Picture 3.png"/>
          <p:cNvPicPr/>
          <p:nvPr/>
        </p:nvPicPr>
        <p:blipFill>
          <a:blip r:embed="rId1"/>
          <a:stretch/>
        </p:blipFill>
        <p:spPr>
          <a:xfrm>
            <a:off x="38088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52EE-6067-4032-BCE5-E30217DD1A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85E-1978-4B21-9A72-E2870897AF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Picture 3.png"/>
          <p:cNvPicPr/>
          <p:nvPr/>
        </p:nvPicPr>
        <p:blipFill>
          <a:blip r:embed="rId1"/>
          <a:stretch/>
        </p:blipFill>
        <p:spPr>
          <a:xfrm>
            <a:off x="30492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1DFE-0530-4C74-A57C-1E313BA88D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83C-2534-4BC0-8084-7170DE46BD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13B-FE6A-4823-BCA7-48EF1AC1FC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4F3-8A76-4E63-B663-3E5676DCCD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784-E80F-4F55-94DB-252C7C05B0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6CE-8262-4C2A-AD0A-FDB6E0551B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440-0CA5-4BE0-BADB-95A0766B75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041480" y="20574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at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B75-ED3D-48E7-86AD-2AAD9B7ADB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w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57A-9D6A-44E2-A3AF-4ABFA666CC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1AAD-DE88-4ED0-9E4C-C3CAFDD50F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041480" y="205740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4CE3-420F-498B-AD75-4CC2F36C1E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14400" y="16765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5DD2-4233-4633-98FE-CC545A2DC9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6364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05EC-24B7-41AA-BA4C-CE2B8B8D6F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9A04-089F-4E1E-8F1B-BF2962EA9D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0720" y="2819520"/>
            <a:ext cx="74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to differentiating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A041-6383-4589-A92F-D80EBDA128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189-12C2-4402-B572-F3EF6C1127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Picture 1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CD8-2524-4E9C-820C-A9328C8777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20A9-9071-4180-AD26-B0767F8B54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designated for the View and Discuss between-session opportunity you took advantage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085-22B3-4660-A844-1A9F012701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361-6383-4A33-93F0-6C5602837A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828800"/>
            <a:ext cx="74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 problem you might anticip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 couple of other approaches in the other box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FA8E-A70D-491C-B8CB-DD96DEAA82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05740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new questions address the 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4AAA-C4F2-463B-9DDA-45728F42F3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the 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6235-EDEC-40B2-B202-67A2867FCF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ABF-22F6-45EB-BB6C-596AEDBB1D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E3BA-C41F-40BB-AF48-C532BEB297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CD1-B465-4AB3-A6AB-BE3E8A18EA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61AE-4A6E-45BB-8DB6-B2BCE9665D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F227-5D3A-4267-B182-13217F5039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9F3-B7D8-44FA-9F24-F8CAE592EC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B76-2AF5-48DB-88FB-79F0225983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06F-7695-41E2-9C57-20F781B0C5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problem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CDF-0D6E-4927-A38C-CF92A4FE5E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FD3-8FFC-4BBF-87F6-9D65B7B259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69C-6D16-4DD8-B30C-73D1B1481F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17AD-09DF-4DEF-9F88-0F039E811F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525-E5B2-49DC-9966-36D78D6D58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icture 2.pn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06668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232-DFC9-448A-885A-C19C4458FE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4382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42E9-F940-41BA-9200-E424F8AA93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1BB1-2293-43F2-9335-5EB41303C4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05D1-B0C0-44BA-B87F-3A6EF58089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362320"/>
            <a:ext cx="741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this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 as its val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concern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3EA-5309-4E79-8341-26387D7C06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76920" y="20574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214956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F79-FCC7-41EE-8A68-E36BE1FF9A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8DA2-3DB5-4BCE-A0EB-F4935D000A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FFAB-27EA-4A27-992C-2CB35A7BA4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7A5-FA35-4E12-B5BA-8924AD45B0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946-F2F9-4D27-AA25-8D82FEC707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762-0041-4A57-A3BC-A864881FD8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CD4-D964-4237-8BE4-8FFAB0F83E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s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E16F-DE35-42FD-A413-9032934BE1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FB9-AD9E-4287-92AF-CEC88DE465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BC56-19A6-4693-A841-AF5E86A584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Picture 1.pn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29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762120" y="762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 changed this from the earlier problem to have something at 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17440" y="27432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that drew your attention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2B9-6F6A-401D-A455-90F10C1607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214956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D61-C93D-49AC-8080-416F30BCB4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1495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D502-F698-4BB7-A47C-1D0278E37A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21495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8474-FE76-4259-A181-8B91FBC1CB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2149560"/>
            <a:ext cx="7619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3 algebraic expressions using combinations of the given words. Then represent the expressions with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44E7-A0C2-499B-83ED-ACEAE8EB44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2120" y="2057400"/>
            <a:ext cx="2819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1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C8D-460A-4D58-9B5E-1AC683F167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181480" y="2057400"/>
            <a:ext cx="2819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2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90720" y="2895480"/>
          <a:ext cx="2743200" cy="21034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 by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he oppo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h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 from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410080" y="2819520"/>
          <a:ext cx="2743200" cy="12794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 by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other representation show those operations were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46D-238A-4C60-9E5B-D76B89CEA4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always end up with two terms (parts) if you used two phra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chosen different words to end up with the same expr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92C-E546-4828-8787-E329EFFAE4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re the advantages and disadvantages of each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4C0-091B-43A1-81D9-E43CD8BA09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5B70-539E-4B95-82EB-6FE971BDA9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Picture 3.png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38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FCE-4F9D-40FA-9370-9EC6E3CAAE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23623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read your Day 1 feedback and have some answers for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2CC6-1167-4185-B551-F86518D9E8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1981080"/>
            <a:ext cx="320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343400" y="1828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681-84E7-4F22-804E-BD9E4A7630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990720" y="762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will notice I changed the expression to stay with grade 9 expec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6220-BA3F-4B45-B05F-004012CF84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B74A-0E79-4694-AE12-31FCFD3946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2120" y="19810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9584-6D3E-4E02-B9EC-B1F061376A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105-8DCB-4588-A15E-F894618B73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1752480"/>
            <a:ext cx="7696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C2FF-927D-49B1-BE76-7972DDA5CD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7C0-5E1E-4692-8833-03A3BFA0FF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492-1752-49C8-9DAF-7338CFCA34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D1E-E37C-42D1-BCD1-299414AC49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DB7-F7F5-4F47-97D6-BAB9808B1A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we will try to answer them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854B-A51C-4C6F-871F-3124B4DABE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1418-6A3E-46DB-B723-74505EFAFB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A42A-1C64-448A-8D22-FD0A0497DA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997F-D5D2-44DF-8C19-66DC7381B2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EFB-18EB-4580-9C1C-DE5E006275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73E-28FE-4137-A124-C0195FEA58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1E0-6297-4B25-8C48-47F10CFAFF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206-9EB7-4AAB-ADDD-3BB4B17381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114300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a few “tweaks” acknowledg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692-44BB-43F2-8B9C-75052822EC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304F-D8C9-40C4-8972-0F20627526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E82-B187-4749-A234-26C679FB6A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share 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CBEF-658D-4BE8-85B6-34F42F1AC7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990720" y="220968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tell the equation of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C078-17E8-4CA0-B204-E54914C846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066680" y="205740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 and perhaps Minds On, but not the consolidation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BD4D-EF3E-4F42-8544-44A67B9ADF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0A1-2CC8-4FDD-8665-F389AFD87D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457200" y="5029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these slides, rather than using a lot of space to write goals, I slipped in a possible BI link—see if you agree– we have to acknowledge that sometimes other BIS would b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2D4-6081-416A-8AF1-4F098ED05F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(Related to BI 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813F-1587-4483-9709-342FC5AAE2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1066680" y="2057400"/>
            <a:ext cx="73152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most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732-7F4F-4B45-A13B-F6A38BB87D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1066680" y="205740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197-52FF-4AE2-9D58-23219C960B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DFB-E660-4CAE-A691-F540BF3250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1066680" y="167652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 (BI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BEC-1595-4979-B317-9FE48BA7F0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Picture 2.png"/>
          <p:cNvPicPr/>
          <p:nvPr/>
        </p:nvPicPr>
        <p:blipFill>
          <a:blip r:embed="rId1"/>
          <a:stretch/>
        </p:blipFill>
        <p:spPr>
          <a:xfrm>
            <a:off x="0" y="1143000"/>
            <a:ext cx="11937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036-9B2A-4CE9-AF3E-EB01CBD9BA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190512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8956-C69D-4D0A-B1C4-8EC725BE7F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9C8E-28C9-4271-B2D4-4BE54AE7E7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822-611A-40C3-81EB-A93415C7A5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Picture 2.png"/>
          <p:cNvPicPr/>
          <p:nvPr/>
        </p:nvPicPr>
        <p:blipFill>
          <a:blip r:embed="rId1"/>
          <a:stretch/>
        </p:blipFill>
        <p:spPr>
          <a:xfrm>
            <a:off x="228600" y="9907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1066680" y="16002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 (BI 5)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791320" y="4191120"/>
            <a:ext cx="312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AE0-46AA-4EF2-955C-6007297425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E4AB-0EAD-461B-87C7-C2A88381CC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Picture 2.png"/>
          <p:cNvPicPr/>
          <p:nvPr/>
        </p:nvPicPr>
        <p:blipFill>
          <a:blip r:embed="rId1"/>
          <a:stretch/>
        </p:blipFill>
        <p:spPr>
          <a:xfrm>
            <a:off x="152280" y="838080"/>
            <a:ext cx="119376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7474-8F6F-4DED-9AB0-B33AA72A5A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Picture 2.png"/>
          <p:cNvPicPr/>
          <p:nvPr/>
        </p:nvPicPr>
        <p:blipFill>
          <a:blip r:embed="rId1"/>
          <a:stretch/>
        </p:blipFill>
        <p:spPr>
          <a:xfrm>
            <a:off x="228600" y="838080"/>
            <a:ext cx="119376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F69D-232C-4412-B7C5-781D16C485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F8F-41A2-4E02-831D-E920529A16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B1E9-2049-4DAF-A817-4CFAD2A307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17D7-F738-430A-B588-26C8996296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EDF-2F77-4414-B214-A494BE870E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1:38:30Z</dcterms:created>
  <dc:creator>PSteele</dc:creator>
  <dc:description/>
  <dc:language>en-US</dc:language>
  <cp:lastModifiedBy>Marian Small</cp:lastModifiedBy>
  <dcterms:modified xsi:type="dcterms:W3CDTF">2009-10-18T23:18:00Z</dcterms:modified>
  <cp:revision>366</cp:revision>
  <dc:subject/>
  <dc:title>Slide 1</dc:title>
</cp:coreProperties>
</file>